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098B-3A05-405A-BD85-25152F27B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8DED-627E-435D-ABFC-7DA78C1CF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FE91-B9AA-4959-BCBB-C0218CC9E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C690-622D-4251-9513-68F440FDA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2FF37-7CF8-421C-9076-55A3F5394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C772E-34C3-4802-BF9E-AE44D3292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0A7A1-B533-4140-9C98-309CFE93E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667E3-B750-4026-AFB2-6BF98F917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13CE6-74FF-44BE-AEBA-EB4E1D912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CCEF5-D25A-49EA-97F4-9B87CC8AB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B47DF-84F5-4204-9318-B87EDF50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0E83-A7D5-4495-9B48-12A5F0CFC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8F5AA-D8AC-4794-B7E5-7F1BD3E5A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316EB-874E-4053-B371-E1301F23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C8A52-2B55-4487-BAD8-35BFB730B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77F02-980D-4FFC-AB87-1ED4DF9A8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28CA4-79E4-4D97-A463-C7CEEBDF8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25C4-97C2-4D00-87CA-63C31424C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5E15-04EA-4184-8FD6-62B8DE523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DAF9-9C84-45AB-B0F2-8DCC81E3C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476A-2954-40EB-89BF-438CC7257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76A4-6763-4453-B7E2-0DCD7A6D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16EF-7A20-4F1E-980A-6A5C2108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F192-F01F-4799-A0A4-0C8307EF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4e75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Eurostile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2E763-A16C-47E6-A071-265D89CF60B1}" type="slidenum">
              <a:rPr b="1" lang="en-US" sz="1000" spc="-1" strike="noStrike">
                <a:solidFill>
                  <a:srgbClr val="000000"/>
                </a:solidFill>
                <a:latin typeface="Eurostile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4e75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Eurostile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2B150-88A6-41C2-9E04-EBA2F302C8DA}" type="slidenum">
              <a:rPr b="1" lang="en-US" sz="1000" spc="-1" strike="noStrike">
                <a:solidFill>
                  <a:srgbClr val="000000"/>
                </a:solidFill>
                <a:latin typeface="Eurostile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4e75"/>
                </a:solidFill>
                <a:latin typeface="Impact"/>
                <a:ea typeface="굴림"/>
              </a:rPr>
              <a:t>KOREAN LANGUAGE</a:t>
            </a:r>
            <a:endParaRPr b="0" lang="en-US" sz="44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335232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  <a:ea typeface="굴림"/>
              </a:rPr>
              <a:t>LVEL 1 (NOVICE)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4e75"/>
                </a:solidFill>
                <a:latin typeface="Impact"/>
                <a:ea typeface="굴림"/>
              </a:rPr>
              <a:t>General Course Information</a:t>
            </a: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  <a:ea typeface="굴림"/>
              </a:rPr>
              <a:t>Instructor: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4e75"/>
                </a:solidFill>
                <a:latin typeface="Impact"/>
                <a:ea typeface="굴림"/>
              </a:rPr>
              <a:t>Transitional Page</a:t>
            </a:r>
            <a:endParaRPr b="0" lang="en-US" sz="44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0" y="3321720"/>
            <a:ext cx="91440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2400" spc="-1" strike="noStrike">
              <a:solidFill>
                <a:srgbClr val="000000"/>
              </a:solidFill>
              <a:latin typeface="Eurostile"/>
              <a:ea typeface="굴림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4e75"/>
                </a:solidFill>
                <a:latin typeface="Impact"/>
                <a:ea typeface="굴림"/>
              </a:rPr>
              <a:t>Your Topic Goes Here</a:t>
            </a: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  <a:ea typeface="굴림"/>
              </a:rPr>
              <a:t>Your subtopic goes here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4e75"/>
                </a:solidFill>
                <a:latin typeface="Impact"/>
                <a:ea typeface="굴림"/>
              </a:rPr>
              <a:t>Elements</a:t>
            </a:r>
            <a:endParaRPr b="0" lang="en-US" sz="44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0" y="335232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  <a:ea typeface="굴림"/>
              </a:rPr>
              <a:t>www.animationfactory.com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92" name="Picture 224" descr="Z:\newtek\_backgrounds_1.02\Tim\powerpoint templates\101-120\cloud_skipper\cloud_skipper_prt.jpg"/>
          <p:cNvPicPr/>
          <p:nvPr/>
        </p:nvPicPr>
        <p:blipFill>
          <a:blip r:embed="rId1"/>
          <a:stretch/>
        </p:blipFill>
        <p:spPr>
          <a:xfrm>
            <a:off x="6983280" y="5218200"/>
            <a:ext cx="2008440" cy="15066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25" descr="Z:\newtek\_backgrounds_1.02\Tim\powerpoint templates\101-120\cloud_skipper\cloud_skipper_qx.jpg"/>
          <p:cNvPicPr/>
          <p:nvPr/>
        </p:nvPicPr>
        <p:blipFill>
          <a:blip r:embed="rId2"/>
          <a:stretch/>
        </p:blipFill>
        <p:spPr>
          <a:xfrm>
            <a:off x="152280" y="5218200"/>
            <a:ext cx="2008440" cy="15066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26" descr="Z:\newtek\_backgrounds_1.02\Tim\powerpoint templates\101-120\cloud_skipper\cloud_skipper_sld.jpg"/>
          <p:cNvPicPr/>
          <p:nvPr/>
        </p:nvPicPr>
        <p:blipFill>
          <a:blip r:embed="rId3"/>
          <a:stretch/>
        </p:blipFill>
        <p:spPr>
          <a:xfrm>
            <a:off x="2428920" y="5218200"/>
            <a:ext cx="2009880" cy="1506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27" descr="Z:\newtek\_backgrounds_1.02\Tim\powerpoint templates\101-120\cloud_skipper\cloud_skipper_trs.jpg"/>
          <p:cNvPicPr/>
          <p:nvPr/>
        </p:nvPicPr>
        <p:blipFill>
          <a:blip r:embed="rId4"/>
          <a:stretch/>
        </p:blipFill>
        <p:spPr>
          <a:xfrm>
            <a:off x="4705200" y="5218200"/>
            <a:ext cx="2009880" cy="150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08:40:46Z</dcterms:created>
  <dc:creator>jyy</dc:creator>
  <dc:description/>
  <dc:language>en-US</dc:language>
  <cp:lastModifiedBy>jyy</cp:lastModifiedBy>
  <dcterms:modified xsi:type="dcterms:W3CDTF">2012-07-26T08:41:49Z</dcterms:modified>
  <cp:revision>1</cp:revision>
  <dc:subject/>
  <dc:title>KOREAN LANGUAGE</dc:title>
</cp:coreProperties>
</file>